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13EF-0CC3-4F7A-A25A-D994870D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981-0E73-4625-8FFE-AF514D96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31A-4694-4EFD-971C-6A227B7E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397-477C-4BDF-9599-DFF7EC33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CBD-FF20-490B-9F81-E20A283B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170-2CE3-4F00-80D6-F33D34F4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9AC-5E85-426A-9640-F9A8B951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7641-BBD4-4361-8A6C-BC6911A0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295E-25FB-45DC-8EDD-C05EE9FB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28E-73E9-4CB9-B384-EA1A3FC0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AB9E-75C9-4BA0-899A-1541CBC1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C8DC-EB06-4045-B34F-054E86F7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5508-B7B2-4611-B2CF-1A978EF43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tiny wilk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447920" y="380880"/>
            <a:ext cx="624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Greek city-state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http://clio.missouristate.edu/chuchiak/New%20Webpage%20Images/10056152aAthensAgora.jpg"/>
          <p:cNvPicPr/>
          <p:nvPr/>
        </p:nvPicPr>
        <p:blipFill>
          <a:blip r:embed="rId2"/>
          <a:stretch/>
        </p:blipFill>
        <p:spPr>
          <a:xfrm>
            <a:off x="2362320" y="3429000"/>
            <a:ext cx="5249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1676520" y="304920"/>
            <a:ext cx="57909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udy of wisdom and the right way to l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63360" y="-87012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63360" y="-87012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63360" y="-87012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ttp://static.newworldencyclopedia.org/thumb/c/cd/Escola_de_Atenas.jpg/350px-Escola_de_Atenas.jpg"/>
          <p:cNvPicPr/>
          <p:nvPr/>
        </p:nvPicPr>
        <p:blipFill>
          <a:blip r:embed="rId2"/>
          <a:stretch/>
        </p:blipFill>
        <p:spPr>
          <a:xfrm>
            <a:off x="2590920" y="3124080"/>
            <a:ext cx="46558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133720" y="380880"/>
            <a:ext cx="48006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 n area of land nearly surrounded by water.</a:t>
            </a: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t2.gstatic.com/images?q=tbn:ANd9GcRGCgbi2yBNTrMDDvkeOMN7csQp5hjlb59dNkraQTvW9u33vPra"/>
          <p:cNvPicPr/>
          <p:nvPr/>
        </p:nvPicPr>
        <p:blipFill>
          <a:blip r:embed="rId2"/>
          <a:stretch/>
        </p:blipFill>
        <p:spPr>
          <a:xfrm>
            <a:off x="2057400" y="30481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676520" y="304920"/>
            <a:ext cx="64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r between Athens and Spa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"/>
          <p:cNvSpPr/>
          <p:nvPr/>
        </p:nvSpPr>
        <p:spPr>
          <a:xfrm>
            <a:off x="63360" y="-723960"/>
            <a:ext cx="30099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ttp://greece.mrdonn.org/pelopo1.gif"/>
          <p:cNvPicPr/>
          <p:nvPr/>
        </p:nvPicPr>
        <p:blipFill>
          <a:blip r:embed="rId2"/>
          <a:stretch/>
        </p:blipFill>
        <p:spPr>
          <a:xfrm>
            <a:off x="3124080" y="2895480"/>
            <a:ext cx="38671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1295280" y="380880"/>
            <a:ext cx="61722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Oligarc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kind of government that is run by a small group  of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hellenicadventures.com/images/greeceHistoryPic07.jpg"/>
          <p:cNvPicPr/>
          <p:nvPr/>
        </p:nvPicPr>
        <p:blipFill>
          <a:blip r:embed="rId2"/>
          <a:stretch/>
        </p:blipFill>
        <p:spPr>
          <a:xfrm>
            <a:off x="3048120" y="2819520"/>
            <a:ext cx="2743200" cy="36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286000" y="304920"/>
            <a:ext cx="47242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Harb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 sheltered place along the coast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t0.gstatic.com/images?q=tbn:ANd9GcQKR9V7C_CRLMwv8ESAXNK8GONsyx2rjtaCSHUIqtPiAIqtVxMPtA"/>
          <p:cNvPicPr/>
          <p:nvPr/>
        </p:nvPicPr>
        <p:blipFill>
          <a:blip r:embed="rId2"/>
          <a:stretch/>
        </p:blipFill>
        <p:spPr>
          <a:xfrm>
            <a:off x="2743200" y="2971800"/>
            <a:ext cx="4103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http://www.sheppardsoftware.com/images/Europe/factfile/Acropolis.jpg"/>
          <p:cNvPicPr/>
          <p:nvPr/>
        </p:nvPicPr>
        <p:blipFill>
          <a:blip r:embed="rId2"/>
          <a:stretch/>
        </p:blipFill>
        <p:spPr>
          <a:xfrm>
            <a:off x="1752480" y="2590920"/>
            <a:ext cx="5973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www.greek-islands.us/athens/greek-agora/ancient-agora.jpg"/>
          <p:cNvPicPr/>
          <p:nvPr/>
        </p:nvPicPr>
        <p:blipFill>
          <a:blip r:embed="rId2"/>
          <a:stretch/>
        </p:blipFill>
        <p:spPr>
          <a:xfrm>
            <a:off x="2666880" y="2743200"/>
            <a:ext cx="49402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2286000" y="30492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685800" y="12952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905120" y="1066680"/>
            <a:ext cx="556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wmaking place where people voted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uplandcds.org/images/greek_Lucy.jpg"/>
          <p:cNvPicPr/>
          <p:nvPr/>
        </p:nvPicPr>
        <p:blipFill>
          <a:blip r:embed="rId2"/>
          <a:stretch/>
        </p:blipFill>
        <p:spPr>
          <a:xfrm>
            <a:off x="2438280" y="3048120"/>
            <a:ext cx="420048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057400" y="38088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tiz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1600200" y="152388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erson who has certain rights and responsibilities to his of her count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t1.gstatic.com/images?q=tbn:ANd9GcSCuFdSSnVmqoaXUzU4ElIlNAdpyD53BPg6x3c6tboJNvOesBNTXA"/>
          <p:cNvPicPr/>
          <p:nvPr/>
        </p:nvPicPr>
        <p:blipFill>
          <a:blip r:embed="rId2"/>
          <a:stretch/>
        </p:blipFill>
        <p:spPr>
          <a:xfrm>
            <a:off x="1600200" y="3124080"/>
            <a:ext cx="58323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133720" y="38088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80880" y="15238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group of people who lived from apart of Greece but kept economic ties wit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www.acefitness.org/images/webcontent/certifiednews/Dec_2011/American_Gothic.jpg"/>
          <p:cNvPicPr/>
          <p:nvPr/>
        </p:nvPicPr>
        <p:blipFill>
          <a:blip r:embed="rId2"/>
          <a:stretch/>
        </p:blipFill>
        <p:spPr>
          <a:xfrm>
            <a:off x="2743200" y="2666880"/>
            <a:ext cx="32702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828800" y="45720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mocra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762120" y="167652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ttps://questgreekmythology.wikispaces.com/file/view/greece06.gif/32856029/greece06.gif"/>
          <p:cNvPicPr/>
          <p:nvPr/>
        </p:nvPicPr>
        <p:blipFill>
          <a:blip r:embed="rId2"/>
          <a:stretch/>
        </p:blipFill>
        <p:spPr>
          <a:xfrm>
            <a:off x="1905120" y="2895480"/>
            <a:ext cx="47242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905120" y="38088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676520" y="1447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y hear evidence and make decisions in a court of law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http://www.usu.edu/markdamen/ClasDram/images/01/theatron.jpg"/>
          <p:cNvPicPr/>
          <p:nvPr/>
        </p:nvPicPr>
        <p:blipFill>
          <a:blip r:embed="rId2"/>
          <a:stretch/>
        </p:blipFill>
        <p:spPr>
          <a:xfrm>
            <a:off x="2057400" y="2819520"/>
            <a:ext cx="50292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905120" y="3808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838080" y="1523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 headed by one ru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http://t0.gstatic.com/images?q=tbn:ANd9GcQ4O2u2dpB44DHSaMmWHnqTAG9bS4DF7TRYg3fu7mtdelIOUClWaMo3KIXL"/>
          <p:cNvPicPr/>
          <p:nvPr/>
        </p:nvPicPr>
        <p:blipFill>
          <a:blip r:embed="rId2"/>
          <a:stretch/>
        </p:blipFill>
        <p:spPr>
          <a:xfrm>
            <a:off x="2895480" y="3436920"/>
            <a:ext cx="35434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21:00:52Z</dcterms:modified>
  <cp:revision>100</cp:revision>
  <dc:subject/>
  <dc:title>Ancient Greece</dc:title>
</cp:coreProperties>
</file>